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464-410D-4043-BA32-71324448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088-72AC-49BD-AA33-89A3C4AC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F2B-D998-4A39-B049-78E2A962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DD7-05AC-4E87-B1DD-6435E605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79A-9931-4C26-9D57-B7C43E97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C1B-7B95-462C-BC50-DC1B57DE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C96-7693-4EA4-8518-A798828D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449-F665-4D73-A0BF-ACB9987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B81-0C1D-4AAB-ACDD-8772AB1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03C-AC8D-4536-8322-6497EAA9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205-AAD5-4434-90AA-B18A309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D5B-2AFB-48E5-B371-F229218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10C3-DCFB-4C8E-9E3C-A22CBA60D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33640" y="25560"/>
            <a:ext cx="82458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ccff"/>
                </a:solidFill>
                <a:latin typeface="comic"/>
              </a:rPr>
              <a:t>76</a:t>
            </a:r>
            <a:r>
              <a:rPr b="1" lang="bg-BG" sz="4400" spc="-1" strike="noStrike">
                <a:solidFill>
                  <a:srgbClr val="808080"/>
                </a:solidFill>
                <a:latin typeface="comic"/>
              </a:rPr>
              <a:t>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зная, жив е Господ мой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приготвил е и място м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Корона славна дава Той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всек, в кръвта Му що е спас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1076400" y="44640"/>
            <a:ext cx="733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Него се надявам аз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нежно кани ме сега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чувам благия Му глас: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"Ела, да бъдеш с Мен всегда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02880" y="116640"/>
            <a:ext cx="73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Ще дойде скоро Той, аз знам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че времето не е далеч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когато ще съм горе там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да пея с ангели наве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68640" y="3934440"/>
            <a:ext cx="672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атуй не ще се скитам ве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С тълпата от Христа далеч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[</a:t>
            </a: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:А сал ще чакам с вяра 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ff"/>
                </a:solidFill>
                <a:latin typeface="Monotype Corsiva"/>
              </a:rPr>
              <a:t>зова на моя славен Спас!:</a:t>
            </a:r>
            <a:r>
              <a:rPr b="1" lang="en-US" sz="3600" spc="-1" strike="noStrike">
                <a:solidFill>
                  <a:srgbClr val="ffccff"/>
                </a:solidFill>
                <a:latin typeface="Monotype Corsiva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20:16:45Z</dcterms:created>
  <dc:creator>TrifonTrifonow</dc:creator>
  <dc:description/>
  <dc:language>en-US</dc:language>
  <cp:lastModifiedBy>TrifonTrifonow</cp:lastModifiedBy>
  <dcterms:modified xsi:type="dcterms:W3CDTF">2005-11-23T20:32:24Z</dcterms:modified>
  <cp:revision>10</cp:revision>
  <dc:subject/>
  <dc:title>Slide 1</dc:title>
</cp:coreProperties>
</file>